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608-0A40-4802-B5BD-ED148D22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5D9-B455-4382-919B-8448E78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370-5760-4AC8-B1C9-18789A81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097-8E8F-46AE-962D-57F7AB2D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63E-19C3-4484-947B-838302C8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322-F153-4D6B-9AB6-120F9EE4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56F-BC21-404E-8A6C-70EDF938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5A4-07DB-4BC3-B0B1-F0FC137E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817-3350-418A-AD86-956069F1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4CB-2513-4A28-AF7C-23D1323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916-97BE-4CAF-B5FA-9F7BB3B2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F0B-FDBA-44CB-98C3-7C7DFC75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5598-1D15-47AF-B85A-346D26AB9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DRMMoreInfoLicenseReq?clid=1036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21004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'autorisation d'accès à cette présentation est actuellement restreinte. Cette présentation peut uniquement être ouverte à l'aide de Microsoft Office version 2003 ou ultérieure. Vous pouvez demander à son auteur d'envoyer une copie pouvant être lue à l'aide du module complémentaire de la gestion des droits pour Internet Explorer. Pour suivre le lien ci-dessous, cliquez sur Diaporama dans le menu Affich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75248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n savoir plus sur les documents à accès restre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>Microsoft Corporation</cp:lastModifiedBy>
  <dcterms:modified xsi:type="dcterms:W3CDTF">2003-08-07T18:53:50Z</dcterms:modified>
  <cp:revision>82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