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C5A-D6B6-4637-9A60-C658987A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638-FDEA-4102-B7A7-D1C2A151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B29-D7F2-43B5-B592-6C5826DF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EDD-BD27-4AE8-8211-F10AA47D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064-A5B0-45BA-90E0-F921EBE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875-01B8-4804-A4D3-19BDA530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50D-DD06-4B98-A556-E59D1580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213-FFBF-4997-8EDE-204D3B5E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C66-7B54-4EFC-983E-750602F4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E65-4D67-4076-A986-D85B34D8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A9F-3ADC-4AC2-B20F-DCEB36F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179-9169-48E6-BCE7-280CCB61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AB0B-2192-4E8B-8AC9-4B4434F36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RestrictedPermissionViewer?clid=1036" TargetMode="External"/><Relationship Id="rId3" Type="http://schemas.openxmlformats.org/officeDocument/2006/relationships/hyperlink" Target="http://r.office.microsoft.com/r/rlidDRMMoreInfoLicenseReq?clid=1036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97180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'autorisation d'accès à cette présentation est actuellement restreinte. Si vous n'utilisez pas Microsoft Office 2003 ou un programme prenant en charge les présentations à accès restreint, vous pouvez lire cette présentation en téléchargeant le module complémentaire de la gestion des droits pour Internet Explorer. Pour suivre le lien ci-dessous, cliquez sur Diaporama dans le menu Affich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8288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Télécharger le module complémentaire de la gestion des droits pour Internet Explo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5146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En savoir plus sur les documents à accès restre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>Microsoft Corporation</cp:lastModifiedBy>
  <dcterms:modified xsi:type="dcterms:W3CDTF">2003-08-07T18:54:12Z</dcterms:modified>
  <cp:revision>84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